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B40C-E72B-4E20-9350-DE02DA075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E67D-BB17-4A88-8873-F01DA20A88B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CC87-0D94-45C7-8A30-2B19152DC7D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A8E8-5AC5-4C2D-96BF-93D2A542AA1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5C1C-46E0-487D-8798-40F671CD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5AC-911F-4875-BF57-6B84296D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3F5-9F7A-4A3E-AA3B-03996E60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673-73FD-4077-944F-3804A192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1DE0-5E53-48C3-BB94-9706B999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1FA3-1E51-4251-85C0-3B0A7E0C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0EB2-B953-4313-B953-1EF3FC32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95ED-CFE5-499E-9609-2D1CE878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2869-5306-46FE-BB18-1679DAF9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DC64-4857-4B3E-88A0-B11B8184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755B-2BD0-49F4-8E59-963B4E6B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3509-F757-4E8D-B893-4C6C810D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C5EF-66D7-4A36-A67F-6DA97237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67B5-BF92-4258-B4E9-602D6C66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8FBE-D5B3-416D-8268-DD26A1C2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26FF-ACAF-4A58-9AF6-2DD643D6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6CE1-67A8-418C-85B9-624EFD7F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C94-43E4-4E57-BFFE-5F26E26D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8138-0391-4917-B994-30803DCB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E798-430D-4117-A7FB-50916715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F9A4-8FA5-4CA2-A74C-0D24E74F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543-6703-4E8F-9E6E-8728B201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ABC-AFE8-409C-A063-EED00C76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A4D-5426-4550-B0F2-E4D17206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592E-E048-49BA-AF9B-1144A839F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9ED8-62CD-4693-9FE5-9B0922005E48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ssessing Texts to Plan and Differentiate Instru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Now apply these ideas and practices to your texts…by planning and teaching a </a:t>
            </a:r>
            <a:br>
              <a:rPr sz="3200"/>
            </a:b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small group lesson (with a lesson guide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22" name="Picture 3" descr="Screen shot 2011-09-26 at 7.50.04 PM.png"/>
          <p:cNvPicPr/>
          <p:nvPr/>
        </p:nvPicPr>
        <p:blipFill>
          <a:blip r:embed="rId1"/>
          <a:stretch/>
        </p:blipFill>
        <p:spPr>
          <a:xfrm>
            <a:off x="914400" y="2057400"/>
            <a:ext cx="2971800" cy="3776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Screen shot 2011-09-26 at 7.50.29 PM.png"/>
          <p:cNvPicPr/>
          <p:nvPr/>
        </p:nvPicPr>
        <p:blipFill>
          <a:blip r:embed="rId2"/>
          <a:stretch/>
        </p:blipFill>
        <p:spPr>
          <a:xfrm>
            <a:off x="4419720" y="2057400"/>
            <a:ext cx="392436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ke initial plans for lesson you will teach about your text on Tuesday, Oct. 9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ad Common Core Standards materials in relation to this task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6" name="Picture 3" descr="Screen shot 2012-09-30 at 12.35.05 PM.png"/>
          <p:cNvPicPr/>
          <p:nvPr/>
        </p:nvPicPr>
        <p:blipFill>
          <a:blip r:embed="rId3"/>
          <a:stretch/>
        </p:blipFill>
        <p:spPr>
          <a:xfrm>
            <a:off x="1066680" y="3962520"/>
            <a:ext cx="67057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Synthesize key ideas about </a:t>
            </a: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narrative and expository text structures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Textbook, Karen Wixson, and Barbara Moss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See a model of explicit instruction around expository text (I Do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Practice planning explicit instruction around expository text (We Do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Connect with more practice and application of ideas to your group’s text (You Do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urn and Tal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are th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difference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etween narrative and expository texts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ich texts ar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ore challenging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o readers and why?  Use evidence from your readings to support your reasoning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 this context, what do you think is the meaning of the phrase “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fourth grade slump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” 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How might we counteract the fourth grade slump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Exposure to more informational texts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(Wixson)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Increases vocab, comprehension, motivation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Builds knowledge of expository text structures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Improves reading, writing, content knowledge and home-school literacy connections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Exposure and explicit instruction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(Moss)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Model and practice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retelling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 as precursor to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synthesis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Attend to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text structure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,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signal words,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relationships between ideas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Take advantage of enthusiasm and link to real world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rrative Texts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(tell a story) …</a:t>
            </a:r>
            <a:br>
              <a:rPr sz="2400"/>
            </a:b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(characters confront problems &gt; which sets up a plot)</a:t>
            </a:r>
            <a:endParaRPr b="0" lang="en-US" sz="2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etting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en and where does the story take place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racter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o is the story about? Who wants something?  By the end, who changes the most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lot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s the problem? What happened? Why? How was the problem solved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heme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s the text really about? What’s the universal message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oint of view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o is telling the story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tylistic Elements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are words used in special ways (e.g., fig. lang, mood, humor, irony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pository texts (to explain, inform, or persuade)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Nonfiction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accurate)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Vs Informationa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blends non-fiction with some narrative element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Expositional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= “explanatory” writing with common thinking patterns &gt; which pattern(s) does the author use to make his arguments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are the common expository text patterns?  What signal words are associated with each pattern?  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pository Text Patter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22860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mpare/Contras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ause/Effec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escription/Explan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quenc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roblem-Solu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588920" y="2357280"/>
            <a:ext cx="338400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oth, in contrast, while.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587480" y="2971800"/>
            <a:ext cx="325008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, therefore; if/then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589280" y="3805200"/>
            <a:ext cx="322884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or example; details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592160" y="4572000"/>
            <a:ext cx="392508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irst, second, next, finally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590720" y="5253120"/>
            <a:ext cx="409284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blem, question, answer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cxnSp>
        <p:nvCxnSpPr>
          <p:cNvPr id="110" name="Straight Arrow Connector 11"/>
          <p:cNvCxnSpPr>
            <a:endCxn id="105" idx="1"/>
          </p:cNvCxnSpPr>
          <p:nvPr/>
        </p:nvCxnSpPr>
        <p:spPr>
          <a:xfrm flipV="1">
            <a:off x="4191120" y="2588400"/>
            <a:ext cx="381600" cy="252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1" name="Straight Arrow Connector 12"/>
          <p:cNvCxnSpPr>
            <a:endCxn id="106" idx="1"/>
          </p:cNvCxnSpPr>
          <p:nvPr/>
        </p:nvCxnSpPr>
        <p:spPr>
          <a:xfrm>
            <a:off x="3428640" y="3201480"/>
            <a:ext cx="1143720" cy="108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2" name="Straight Arrow Connector 14"/>
          <p:cNvCxnSpPr/>
          <p:nvPr/>
        </p:nvCxnSpPr>
        <p:spPr>
          <a:xfrm flipV="1">
            <a:off x="3124080" y="4037760"/>
            <a:ext cx="1372320" cy="252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3" name="Straight Arrow Connector 16"/>
          <p:cNvCxnSpPr/>
          <p:nvPr/>
        </p:nvCxnSpPr>
        <p:spPr>
          <a:xfrm flipV="1">
            <a:off x="2895120" y="4876560"/>
            <a:ext cx="1600920" cy="216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4" name="Straight Arrow Connector 18"/>
          <p:cNvCxnSpPr/>
          <p:nvPr/>
        </p:nvCxnSpPr>
        <p:spPr>
          <a:xfrm flipV="1">
            <a:off x="4114800" y="5486040"/>
            <a:ext cx="381600" cy="216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Modeling Explicit Instruction of Expository Text Comprehension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6" name="Picture 3" descr="Screen shot 2012-09-30 at 11.22.13 AM.png"/>
          <p:cNvPicPr/>
          <p:nvPr/>
        </p:nvPicPr>
        <p:blipFill>
          <a:blip r:embed="rId1"/>
          <a:stretch/>
        </p:blipFill>
        <p:spPr>
          <a:xfrm>
            <a:off x="533520" y="2133720"/>
            <a:ext cx="3043080" cy="38862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3764880" y="1905120"/>
            <a:ext cx="49068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an you imagine digging a hole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 your backyard to plant some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lowers and, to your surprise,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you uncover treasures from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re than 1,000 years ago?? </a:t>
            </a:r>
            <a:br>
              <a:rPr sz="2400"/>
            </a:b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would you do?  Would you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tell anyone?  Why or why not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Let’s read The First Discovery to find out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happened when a farmer named 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Enzecchetta digs out a well in southern 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taly to discover something unbelievable!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Use what you’ve learned about narrative and expository text features AND how to scaffold understanding of challenging text to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Locate &amp; note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llenging feature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/or content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pose an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nstructional practice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at could be used to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explicitly teach about expository text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ile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building comprehension and motivation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o read further at each of these challenging point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dentify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hen in the teaching cycle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you would integrate this practice (before, during, and/or after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0" name="Picture 3" descr="Screen shot 2012-09-30 at 11.22.13 AM.png"/>
          <p:cNvPicPr/>
          <p:nvPr/>
        </p:nvPicPr>
        <p:blipFill>
          <a:blip r:embed="rId3"/>
          <a:stretch/>
        </p:blipFill>
        <p:spPr>
          <a:xfrm>
            <a:off x="7467480" y="685800"/>
            <a:ext cx="1373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4:24:04Z</dcterms:created>
  <dc:creator>Julie Coiro</dc:creator>
  <dc:description/>
  <dc:language>en-US</dc:language>
  <cp:lastModifiedBy>Julie Coiro</cp:lastModifiedBy>
  <dcterms:modified xsi:type="dcterms:W3CDTF">2012-09-30T16:36:06Z</dcterms:modified>
  <cp:revision>208</cp:revision>
  <dc:subject/>
  <dc:title>Metacognitive Strategy Instruction to Enhance Reading Comprehension</dc:title>
</cp:coreProperties>
</file>